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65D-460C-4D74-B36E-9FBB02E5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123-A379-4DCC-8C49-385D03F8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DEB-8B56-49D2-8CE7-BA28DD5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FA4-705A-4297-9649-696B0008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E07-F89F-467C-93CB-796E907C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8FC-AC29-49A2-9790-E4DC1216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CA9-6C6E-4EB9-9E34-2AA71704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587-BD4F-48B4-9EB0-3048BC3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142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DAE-4E69-4F7B-904A-58B32CC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E5A-8ACD-4EED-B3A7-8FEBC03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2C1-1E41-42AD-B0FA-BB03494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CD9-1047-43E6-88F9-54ADA63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181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anua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20, 200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248520"/>
            <a:ext cx="5181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1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641-B569-4E3C-B1DD-45E22F4196BD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ree.celinuxforum.org/CelfPubWiki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ree.celinuxforum.org/CelfPubWiki/FrontPage" TargetMode="External"/><Relationship Id="rId3" Type="http://schemas.openxmlformats.org/officeDocument/2006/relationships/hyperlink" Target="http://tree.celinuxforum.org/CelfPubWiki/FrontPage" TargetMode="External"/><Relationship Id="rId4" Type="http://schemas.openxmlformats.org/officeDocument/2006/relationships/hyperlink" Target="http://tree.celinuxforum.org/CelfPubWiki/FrontPag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F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ony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E Linux Forum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Mailing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celinux-dev@tree.celinuxforum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Go to web sit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subscrip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Please announce projects and results t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F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Regional Jamborees - every 2 months in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orldwide conference, in San Jose, April 11 and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ots of great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oo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al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ts, lots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Great sp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reg Kroah Hartman will b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reg is USB maintainer, developer of new Linux Driv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New web site coming very 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Call for papers already iss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Proposals due by February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Almost every presentation given today would make a great session at the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Also having demos and BO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What is a BOF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BOF =“ Birds Of a Feather”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Group of people who are interested in the sam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Informal meeting for fre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Some proposed BOFs for April con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Boot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Kernel T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Realtime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Building a Linux Test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onference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ocation: Network Meeting Center, Santa C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ight next to Santa Clara Convention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eb page - new page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iki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tree.celinuxforum.org/CelfPub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eddedLinuxConference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st: $200 professional, $40 hobby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F is a sponsor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e hold an embedded Linux B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e submit proposals, and have present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urrently plan to submit at least 5 proposals fo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ncourage others to participate, and to submit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eadline is Februar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Plea for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veral presentations made today would be great candida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lease come to share and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ep working on improvements to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et others know what you’re do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We need volunteers to assist with translating Jamboree materials to 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Recommend working in pairs - one Japanese speaker and one native- English sp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Maybe forum can provide translator “matching”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ommunity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Con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Mission: improve Linux for use in CE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e find areas where Linux can be improved for C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en we fix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nd areas where Linux can be improved for CE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he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x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By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”, I me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nd areas where Linux can be improved for CE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he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x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By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”, I me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What does CELF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  <a:ea typeface="굴림"/>
              </a:rPr>
              <a:t>CELF’s Mai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797360"/>
            <a:ext cx="54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2349360"/>
            <a:ext cx="7201080" cy="3097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F tries to help build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ty effec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mbedded linux developers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ommunity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Open Source is built on communication and “community effec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Open Source system multiplies your eff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Public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iling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Test Lab (coming so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"/>
                <a:ea typeface="굴림"/>
              </a:rPr>
              <a:t>CELF maintains a wiki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33cc"/>
                </a:solidFill>
                <a:uFillTx/>
                <a:latin typeface="Arial"/>
                <a:ea typeface="굴림"/>
                <a:hlinkClick r:id="rId2"/>
              </a:rPr>
              <a:t>http://tree.celinuxforum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33cc"/>
                </a:solidFill>
                <a:uFillTx/>
                <a:latin typeface="Arial"/>
                <a:ea typeface="굴림"/>
                <a:hlinkClick r:id="rId3"/>
              </a:rPr>
              <a:t>CelfPubWiki</a:t>
            </a:r>
            <a:r>
              <a:rPr b="0" lang="ko-KR" sz="2800" spc="-1" strike="noStrike" u="sng">
                <a:solidFill>
                  <a:srgbClr val="0033cc"/>
                </a:solidFill>
                <a:uFillTx/>
                <a:latin typeface="Arial"/>
                <a:ea typeface="굴림"/>
                <a:hlinkClick r:id="rId4"/>
              </a:rPr>
              <a:t>/Front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Want to keep information about technology area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Can hold original information, or just link to existing project or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Trying to keep member project lis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Please put your project information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0:58:32Z</dcterms:created>
  <dc:creator>bpark1</dc:creator>
  <dc:description/>
  <dc:language>en-US</dc:language>
  <cp:lastModifiedBy>Tim Bird</cp:lastModifiedBy>
  <dcterms:modified xsi:type="dcterms:W3CDTF">2006-01-20T11:20:07Z</dcterms:modified>
  <cp:revision>26</cp:revision>
  <dc:subject/>
  <dc:title>DTVWG Progress Reports</dc:title>
</cp:coreProperties>
</file>